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A6F-D342-409F-8796-FFB71DF3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CF8-599E-4B61-B0D8-36CD581B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807-D04E-4448-B3EE-EEA58686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CEE-CBFF-4D59-8E86-6EAF2DC8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97D-F2CE-4779-A4BB-2734ED23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300-F75D-4264-BBC2-F5FA155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18EE-BD42-4D21-B782-84CECD4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36E-057D-439D-AFB9-4B6215E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DC29-C497-4253-8230-4E2AC2D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BEFA-6DC5-4AED-ACED-081CE952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1F8-1648-4F25-BFA7-E5039C4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300-1168-4466-8330-736C42E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05F-34FB-4801-9F1F-860D95B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7DC4-8AB4-4D8E-9881-8186BFDC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A6C-97A7-446C-9AD4-08D7661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19AF-DFBB-4BBA-A45E-2654C4C4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CE7B-EE37-4820-8B43-402239F7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C0E-910B-46CF-B3AE-61089570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07C-6DEC-46F7-B9F2-4D933DE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F19-6708-46F7-A520-E79ACD7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E81-00D4-4CBE-976A-252109BB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DC5-2F3F-4D8C-8468-B27C04CA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54B-2C01-4389-AD48-E1A8FA31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678-B321-49B3-840C-3564F6A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558-85D2-477F-9C4F-163C1BFD6CD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607D-4D4B-4E23-BDD6-BC5B0725D91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ocs.google.com/View?docid=ddfgkm8n_20d4wd3n&amp;revision=_published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 - del.icio.us Session 1 of 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ting going with del.icio.u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it is your turn to try del.icio.us.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ttp://del.icio.u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relevant links and post them on your isquad’s del.icio.us sit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 will now find useful and relevant sites for your iSquad job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py the address and post them to your isquad del.icio.us sit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dd a description and notes and save i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heck that the link works.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 the instruction sheet link on http://del.icio.us/isquad  for assistanc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monstrate on the SmartBoard some of the bookmarks you add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what types of bookmarks you might need in your role as an iSquad memb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l.icio.us Instruction Shee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social bookmark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login and post to my school’s isquad del.icio.us accoun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ny times teachers want to share online resources with their studen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ing del.icio.us will let the iSquad members help their teachers and classmates find online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is social bookmarking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allows you to save website links on a websit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allows you to share your bookmarks with other people. This is helpful to a teacher who wants to point their students to a link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is also useful when collaborating with other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Using a social bookmarking site like del.icio.us allows you to see your bookmarks from any computer on the Internet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748040" cy="3284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Open a browser window and navigate to </a:t>
            </a:r>
            <a:r>
              <a:rPr b="0" lang="en-US" sz="2000" spc="-1" strike="noStrike" u="sng">
                <a:solidFill>
                  <a:srgbClr val="995421"/>
                </a:solidFill>
                <a:uFillTx/>
                <a:latin typeface="Arial"/>
                <a:hlinkClick r:id="rId2"/>
              </a:rPr>
              <a:t>http://del.icio.us</a:t>
            </a: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Click on the login link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077320" y="1981080"/>
            <a:ext cx="685800" cy="1600200"/>
            <a:chOff x="8077320" y="1981080"/>
            <a:chExt cx="685800" cy="1600200"/>
          </a:xfrm>
        </p:grpSpPr>
        <p:sp>
          <p:nvSpPr>
            <p:cNvPr id="107" name=""/>
            <p:cNvSpPr/>
            <p:nvPr/>
          </p:nvSpPr>
          <p:spPr>
            <a:xfrm flipH="1">
              <a:off x="8305920" y="1981080"/>
              <a:ext cx="457200" cy="1371600"/>
            </a:xfrm>
            <a:prstGeom prst="line">
              <a:avLst/>
            </a:prstGeom>
            <a:ln w="38160">
              <a:solidFill>
                <a:srgbClr val="e6233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7320" y="3352680"/>
              <a:ext cx="30456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267080" cy="2952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Type in the isquad username and password, and click “log in”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680" y="2209680"/>
            <a:ext cx="457200" cy="1371600"/>
          </a:xfrm>
          <a:prstGeom prst="line">
            <a:avLst/>
          </a:prstGeom>
          <a:ln w="38160">
            <a:solidFill>
              <a:srgbClr val="e623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581280"/>
            <a:ext cx="76176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You post a link to the del.icio.us account by clicking on the “post” link at the top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In a new browser window, find a page that you want to save. Highlight the address and copy it. Paste it in the url text box and press save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Give it a brief description, which becomes the title. More descriptions can be added in the Notes box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29200" y="1676520"/>
            <a:ext cx="3754440" cy="1495440"/>
            <a:chOff x="5029200" y="1676520"/>
            <a:chExt cx="3754440" cy="14954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1802" b="0"/>
            <a:stretch/>
          </p:blipFill>
          <p:spPr>
            <a:xfrm>
              <a:off x="5029200" y="2057400"/>
              <a:ext cx="37544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flipH="1">
              <a:off x="7238520" y="1676520"/>
              <a:ext cx="304920" cy="1066680"/>
            </a:xfrm>
            <a:prstGeom prst="line">
              <a:avLst/>
            </a:prstGeom>
            <a:ln w="19080">
              <a:solidFill>
                <a:srgbClr val="e6233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2743200"/>
              <a:ext cx="228600" cy="152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829040" y="388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29200" y="3352680"/>
            <a:ext cx="3733920" cy="914400"/>
            <a:chOff x="5029200" y="3352680"/>
            <a:chExt cx="3733920" cy="9144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rcRect l="0" t="0" r="0" b="12467"/>
            <a:stretch/>
          </p:blipFill>
          <p:spPr>
            <a:xfrm>
              <a:off x="5029200" y="3352680"/>
              <a:ext cx="3733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05520" y="4038480"/>
              <a:ext cx="31240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29200" y="4495680"/>
            <a:ext cx="3695760" cy="1981440"/>
            <a:chOff x="5029200" y="4495680"/>
            <a:chExt cx="3695760" cy="198144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029200" y="4495680"/>
              <a:ext cx="369576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105520" y="5562720"/>
              <a:ext cx="327636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6248520"/>
              <a:ext cx="3812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Natuzzi</cp:lastModifiedBy>
  <dcterms:modified xsi:type="dcterms:W3CDTF">2007-02-03T17:12:40Z</dcterms:modified>
  <cp:revision>17</cp:revision>
  <dc:subject/>
  <dc:title>Workshop Title</dc:title>
</cp:coreProperties>
</file>